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FBB-A57E-4CB3-959C-A8185075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6FE-7590-4C32-ADA2-6F1840D9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AA9-3FC0-4D33-A19B-9A1E0FC5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EF7-9D70-44BD-9109-687597AB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ED0B-AF80-463B-8A6D-F6CEF0EB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4FB-4D52-4BC9-B266-49C79EE3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972-6D41-4412-A3EB-0E0E7E6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9EFE-F417-4A5A-ADC4-8785AFF4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1F1E-019E-488A-9D5C-385FBA7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ECD6-A884-432F-AF36-64933280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CFD-7760-44AA-8B1A-6A2A524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647-E0C2-4AC4-B7DC-F79BD14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6345-EA45-4725-8743-EAE6CFB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33C-BFB7-4E7C-904D-4E12423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7BB9-02FA-4069-B647-C8045A2F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743E-7995-4999-A052-2A26870C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B44-EC58-4E75-B4A7-96700DA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26C6-C9BC-4304-A665-88ECDD86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FE70-13D8-4D1A-876E-9D53160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02F1-D93A-474B-AF65-0EC39A4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9565-1A5B-4D99-8B19-9CDC21D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175B-641A-4DF3-A91B-679D21D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65E-20BC-4CB6-A04E-CDAAD27F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4FDE-6562-41D8-8934-B4012BD7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27D6-20FA-469B-AF19-EEE29A0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0129-F82D-4BA7-8ED4-0C35E3B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F357-A5C8-42F4-A698-81267B58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FBC1-4509-493E-84C9-2A5B71D9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1074-8D52-47DF-86C7-D53CF230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A8FE-7454-4D9B-AECA-38D09EE4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406B-39E3-4728-9430-33145789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B908-74E4-4F54-80F3-D0525513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89B9-8F78-4D86-8E0E-8AC836F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8F1-8E02-42D0-9756-375C2086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3C850-B662-4AC3-AE42-80A5F84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E8B4-D1C7-42D4-8A4F-D70E1FBE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25E5-91EC-403F-B69C-0460ABC8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6C7A-F9FE-46DB-9309-9CAE3EC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3060-18B4-493C-8DCB-A286CE3A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1E1D-B491-46E7-97DB-E050B33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7B20-CF57-4722-B899-5DEBAB6C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5F33-E523-4737-8A94-0FD20F2A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51F8-5025-4100-B753-B72777DF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30A-5C5B-40E0-8871-4CD62FBB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C74-3A0B-4145-B2CF-496D8A2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FD5-5464-40FC-A13B-6DC9EBA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C1D-8D72-4F68-8F4A-D38BB87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644-1498-4BB8-A53E-00CAA901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5B69-8D70-46C0-9BF8-3CF8A83027B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F4F-5F75-432F-AE71-4B419722980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37E2-1287-4BA4-B9DC-186485D048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9E8A-27F4-4091-BCD3-9A2EFD462F2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507960"/>
            <a:ext cx="90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人类可以成就伟大的事业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这句话出自于欧洲的哪次运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指导思想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这次运动的背景和性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有哪些代表人物和代表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对欧洲带来什么影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2"/>
          <p:cNvSpPr/>
          <p:nvPr/>
        </p:nvSpPr>
        <p:spPr>
          <a:xfrm>
            <a:off x="1187280" y="220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、铲除巨石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革命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9280" y="3573360"/>
            <a:ext cx="4753080" cy="2664000"/>
            <a:chOff x="179280" y="3573360"/>
            <a:chExt cx="4753080" cy="2664000"/>
          </a:xfrm>
        </p:grpSpPr>
        <p:sp>
          <p:nvSpPr>
            <p:cNvPr id="242" name="任意多边形 1"/>
            <p:cNvSpPr/>
            <p:nvPr/>
          </p:nvSpPr>
          <p:spPr>
            <a:xfrm>
              <a:off x="1528920" y="3573360"/>
              <a:ext cx="2092320" cy="2664000"/>
            </a:xfrm>
            <a:custGeom>
              <a:avLst/>
              <a:gdLst/>
              <a:ahLst/>
              <a:rect l="l" t="t" r="r" b="b"/>
              <a:pathLst>
                <a:path w="1791635" h="1888991">
                  <a:moveTo>
                    <a:pt x="1764247" y="554586"/>
                  </a:moveTo>
                  <a:cubicBezTo>
                    <a:pt x="1766666" y="733596"/>
                    <a:pt x="1813723" y="859910"/>
                    <a:pt x="1778761" y="1512529"/>
                  </a:cubicBezTo>
                  <a:cubicBezTo>
                    <a:pt x="1775742" y="1568875"/>
                    <a:pt x="1748733" y="1601113"/>
                    <a:pt x="1720704" y="1643157"/>
                  </a:cubicBezTo>
                  <a:cubicBezTo>
                    <a:pt x="1708899" y="1678572"/>
                    <a:pt x="1705298" y="1702106"/>
                    <a:pt x="1677161" y="1730243"/>
                  </a:cubicBezTo>
                  <a:cubicBezTo>
                    <a:pt x="1664826" y="1742578"/>
                    <a:pt x="1647019" y="1748104"/>
                    <a:pt x="1633618" y="1759271"/>
                  </a:cubicBezTo>
                  <a:cubicBezTo>
                    <a:pt x="1617849" y="1772412"/>
                    <a:pt x="1608019" y="1792846"/>
                    <a:pt x="1590076" y="1802814"/>
                  </a:cubicBezTo>
                  <a:cubicBezTo>
                    <a:pt x="1563328" y="1817674"/>
                    <a:pt x="1532019" y="1822167"/>
                    <a:pt x="1502990" y="1831843"/>
                  </a:cubicBezTo>
                  <a:lnTo>
                    <a:pt x="1459447" y="1846357"/>
                  </a:lnTo>
                  <a:cubicBezTo>
                    <a:pt x="1204722" y="1931263"/>
                    <a:pt x="1431200" y="1860538"/>
                    <a:pt x="748247" y="1875386"/>
                  </a:cubicBezTo>
                  <a:cubicBezTo>
                    <a:pt x="636971" y="1870548"/>
                    <a:pt x="525118" y="1873171"/>
                    <a:pt x="414418" y="1860871"/>
                  </a:cubicBezTo>
                  <a:cubicBezTo>
                    <a:pt x="351005" y="1853825"/>
                    <a:pt x="341577" y="1805285"/>
                    <a:pt x="312818" y="1759271"/>
                  </a:cubicBezTo>
                  <a:cubicBezTo>
                    <a:pt x="303573" y="1744479"/>
                    <a:pt x="293929" y="1729924"/>
                    <a:pt x="283790" y="1715729"/>
                  </a:cubicBezTo>
                  <a:cubicBezTo>
                    <a:pt x="269729" y="1696044"/>
                    <a:pt x="255990" y="1676038"/>
                    <a:pt x="240247" y="1657671"/>
                  </a:cubicBezTo>
                  <a:cubicBezTo>
                    <a:pt x="194148" y="1603889"/>
                    <a:pt x="170503" y="1606682"/>
                    <a:pt x="138647" y="1527043"/>
                  </a:cubicBezTo>
                  <a:cubicBezTo>
                    <a:pt x="103140" y="1438275"/>
                    <a:pt x="124070" y="1476149"/>
                    <a:pt x="80590" y="1410929"/>
                  </a:cubicBezTo>
                  <a:cubicBezTo>
                    <a:pt x="44109" y="1301483"/>
                    <a:pt x="93320" y="1436389"/>
                    <a:pt x="37047" y="1323843"/>
                  </a:cubicBezTo>
                  <a:cubicBezTo>
                    <a:pt x="30205" y="1310159"/>
                    <a:pt x="27371" y="1294814"/>
                    <a:pt x="22533" y="1280300"/>
                  </a:cubicBezTo>
                  <a:cubicBezTo>
                    <a:pt x="-12679" y="1033831"/>
                    <a:pt x="-1860" y="1151002"/>
                    <a:pt x="22533" y="699729"/>
                  </a:cubicBezTo>
                  <a:cubicBezTo>
                    <a:pt x="25890" y="637616"/>
                    <a:pt x="52237" y="625806"/>
                    <a:pt x="80590" y="569100"/>
                  </a:cubicBezTo>
                  <a:cubicBezTo>
                    <a:pt x="158339" y="413602"/>
                    <a:pt x="-4233" y="688323"/>
                    <a:pt x="124133" y="452986"/>
                  </a:cubicBezTo>
                  <a:cubicBezTo>
                    <a:pt x="140839" y="422358"/>
                    <a:pt x="162838" y="394929"/>
                    <a:pt x="182190" y="365900"/>
                  </a:cubicBezTo>
                  <a:cubicBezTo>
                    <a:pt x="205167" y="331434"/>
                    <a:pt x="227751" y="295812"/>
                    <a:pt x="254761" y="264300"/>
                  </a:cubicBezTo>
                  <a:cubicBezTo>
                    <a:pt x="268119" y="248715"/>
                    <a:pt x="284946" y="236342"/>
                    <a:pt x="298304" y="220757"/>
                  </a:cubicBezTo>
                  <a:cubicBezTo>
                    <a:pt x="314047" y="202390"/>
                    <a:pt x="323767" y="178771"/>
                    <a:pt x="341847" y="162700"/>
                  </a:cubicBezTo>
                  <a:cubicBezTo>
                    <a:pt x="369725" y="137920"/>
                    <a:pt x="445613" y="92165"/>
                    <a:pt x="486990" y="75614"/>
                  </a:cubicBezTo>
                  <a:cubicBezTo>
                    <a:pt x="515400" y="64250"/>
                    <a:pt x="545047" y="56262"/>
                    <a:pt x="574076" y="46586"/>
                  </a:cubicBezTo>
                  <a:cubicBezTo>
                    <a:pt x="617132" y="32234"/>
                    <a:pt x="641137" y="22229"/>
                    <a:pt x="690190" y="17557"/>
                  </a:cubicBezTo>
                  <a:cubicBezTo>
                    <a:pt x="767401" y="10204"/>
                    <a:pt x="845009" y="7881"/>
                    <a:pt x="922418" y="3043"/>
                  </a:cubicBezTo>
                  <a:cubicBezTo>
                    <a:pt x="1115942" y="7881"/>
                    <a:pt x="1312039" y="-14268"/>
                    <a:pt x="1502990" y="17557"/>
                  </a:cubicBezTo>
                  <a:cubicBezTo>
                    <a:pt x="1533173" y="22587"/>
                    <a:pt x="1522342" y="75614"/>
                    <a:pt x="1532018" y="104643"/>
                  </a:cubicBezTo>
                  <a:lnTo>
                    <a:pt x="1575561" y="235271"/>
                  </a:lnTo>
                  <a:cubicBezTo>
                    <a:pt x="1580399" y="249785"/>
                    <a:pt x="1579258" y="267996"/>
                    <a:pt x="1590076" y="278814"/>
                  </a:cubicBezTo>
                  <a:cubicBezTo>
                    <a:pt x="1872316" y="561058"/>
                    <a:pt x="1565319" y="265443"/>
                    <a:pt x="1720704" y="394929"/>
                  </a:cubicBezTo>
                  <a:cubicBezTo>
                    <a:pt x="1736473" y="408069"/>
                    <a:pt x="1758349" y="418811"/>
                    <a:pt x="1764247" y="438471"/>
                  </a:cubicBezTo>
                  <a:cubicBezTo>
                    <a:pt x="1773979" y="470909"/>
                    <a:pt x="1761828" y="375576"/>
                    <a:pt x="1764247" y="554586"/>
                  </a:cubicBezTo>
                  <a:close/>
                </a:path>
              </a:pathLst>
            </a:custGeom>
            <a:solidFill>
              <a:srgbClr val="996666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3736800"/>
              <a:ext cx="23958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" descr=""/>
            <p:cNvPicPr/>
            <p:nvPr/>
          </p:nvPicPr>
          <p:blipFill>
            <a:blip r:embed="rId2"/>
            <a:stretch/>
          </p:blipFill>
          <p:spPr>
            <a:xfrm>
              <a:off x="2535120" y="3770280"/>
              <a:ext cx="2397240" cy="2467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nvw"/>
          <p:cNvPicPr/>
          <p:nvPr/>
        </p:nvPicPr>
        <p:blipFill>
          <a:blip r:embed="rId1"/>
          <a:stretch/>
        </p:blipFill>
        <p:spPr>
          <a:xfrm>
            <a:off x="900000" y="406440"/>
            <a:ext cx="2519640" cy="3429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324000" y="40068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英国女王 伊丽莎白二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241960" y="407340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英国首相  卡梅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45"/>
          <p:cNvSpPr/>
          <p:nvPr/>
        </p:nvSpPr>
        <p:spPr>
          <a:xfrm>
            <a:off x="1423800" y="48704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种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统而不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的制度称为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46"/>
          <p:cNvSpPr/>
          <p:nvPr/>
        </p:nvSpPr>
        <p:spPr>
          <a:xfrm>
            <a:off x="7050960" y="48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君主立宪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50"/>
          <p:cNvSpPr/>
          <p:nvPr/>
        </p:nvSpPr>
        <p:spPr>
          <a:xfrm>
            <a:off x="4419720" y="24861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52"/>
          <p:cNvSpPr/>
          <p:nvPr/>
        </p:nvSpPr>
        <p:spPr>
          <a:xfrm>
            <a:off x="4419720" y="24861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54" descr="000bdbc9493b0e42efe61e"/>
          <p:cNvPicPr/>
          <p:nvPr/>
        </p:nvPicPr>
        <p:blipFill>
          <a:blip r:embed="rId2"/>
          <a:stretch/>
        </p:blipFill>
        <p:spPr>
          <a:xfrm>
            <a:off x="5435640" y="406440"/>
            <a:ext cx="28065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9920" y="1123560"/>
            <a:ext cx="266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3640" y="11955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68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9920" y="1962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目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2022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限制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993600" y="28004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9920" y="289260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法律形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国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权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进行明确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制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0720" y="41259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君主立宪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资产阶级统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确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1044720" y="40831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87640" y="404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权利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法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67280" y="4149720"/>
            <a:ext cx="23050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4724280"/>
            <a:ext cx="2808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16542" r="0" b="11484"/>
          <a:stretch/>
        </p:blipFill>
        <p:spPr>
          <a:xfrm>
            <a:off x="1908000" y="1628640"/>
            <a:ext cx="5113440" cy="5013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033640" y="62064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国王仍然是国家的主人，但已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理国家大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87640" y="5524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革命后的英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00760" y="225000"/>
            <a:ext cx="729000" cy="5080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确立资产阶级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8760" y="153720"/>
            <a:ext cx="729000" cy="5080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推翻封建君主专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15559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547640" y="155592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79640" y="692280"/>
            <a:ext cx="5040360" cy="583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360" y="1195560"/>
            <a:ext cx="280836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2995560"/>
            <a:ext cx="792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名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-27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小伙伴们胜利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89080" y="8524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革命后，议会选出来的政府制定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新的经济政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鼓励开办工场，降低税率，鼓励海外贸易等等。汤姆和杰瑞的生意越做越大，成为英国有名的呢绒大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31640" y="2997360"/>
            <a:ext cx="7561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资本主义发展扫清了道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4078440"/>
            <a:ext cx="4608000" cy="2303280"/>
            <a:chOff x="0" y="4078440"/>
            <a:chExt cx="4608000" cy="2303280"/>
          </a:xfrm>
        </p:grpSpPr>
        <p:sp>
          <p:nvSpPr>
            <p:cNvPr id="278" name="任意多边形 1"/>
            <p:cNvSpPr/>
            <p:nvPr/>
          </p:nvSpPr>
          <p:spPr>
            <a:xfrm>
              <a:off x="1308240" y="4078440"/>
              <a:ext cx="2028600" cy="2303280"/>
            </a:xfrm>
            <a:custGeom>
              <a:avLst/>
              <a:gdLst/>
              <a:ahLst/>
              <a:rect l="l" t="t" r="r" b="b"/>
              <a:pathLst>
                <a:path w="1791635" h="1888991">
                  <a:moveTo>
                    <a:pt x="1764247" y="554586"/>
                  </a:moveTo>
                  <a:cubicBezTo>
                    <a:pt x="1766666" y="733596"/>
                    <a:pt x="1813723" y="859910"/>
                    <a:pt x="1778761" y="1512529"/>
                  </a:cubicBezTo>
                  <a:cubicBezTo>
                    <a:pt x="1775742" y="1568875"/>
                    <a:pt x="1748733" y="1601113"/>
                    <a:pt x="1720704" y="1643157"/>
                  </a:cubicBezTo>
                  <a:cubicBezTo>
                    <a:pt x="1708899" y="1678572"/>
                    <a:pt x="1705298" y="1702106"/>
                    <a:pt x="1677161" y="1730243"/>
                  </a:cubicBezTo>
                  <a:cubicBezTo>
                    <a:pt x="1664826" y="1742578"/>
                    <a:pt x="1647019" y="1748104"/>
                    <a:pt x="1633618" y="1759271"/>
                  </a:cubicBezTo>
                  <a:cubicBezTo>
                    <a:pt x="1617849" y="1772412"/>
                    <a:pt x="1608019" y="1792846"/>
                    <a:pt x="1590076" y="1802814"/>
                  </a:cubicBezTo>
                  <a:cubicBezTo>
                    <a:pt x="1563328" y="1817674"/>
                    <a:pt x="1532019" y="1822167"/>
                    <a:pt x="1502990" y="1831843"/>
                  </a:cubicBezTo>
                  <a:lnTo>
                    <a:pt x="1459447" y="1846357"/>
                  </a:lnTo>
                  <a:cubicBezTo>
                    <a:pt x="1204722" y="1931263"/>
                    <a:pt x="1431200" y="1860538"/>
                    <a:pt x="748247" y="1875386"/>
                  </a:cubicBezTo>
                  <a:cubicBezTo>
                    <a:pt x="636971" y="1870548"/>
                    <a:pt x="525118" y="1873171"/>
                    <a:pt x="414418" y="1860871"/>
                  </a:cubicBezTo>
                  <a:cubicBezTo>
                    <a:pt x="351005" y="1853825"/>
                    <a:pt x="341577" y="1805285"/>
                    <a:pt x="312818" y="1759271"/>
                  </a:cubicBezTo>
                  <a:cubicBezTo>
                    <a:pt x="303573" y="1744479"/>
                    <a:pt x="293929" y="1729924"/>
                    <a:pt x="283790" y="1715729"/>
                  </a:cubicBezTo>
                  <a:cubicBezTo>
                    <a:pt x="269729" y="1696044"/>
                    <a:pt x="255990" y="1676038"/>
                    <a:pt x="240247" y="1657671"/>
                  </a:cubicBezTo>
                  <a:cubicBezTo>
                    <a:pt x="194148" y="1603889"/>
                    <a:pt x="170503" y="1606682"/>
                    <a:pt x="138647" y="1527043"/>
                  </a:cubicBezTo>
                  <a:cubicBezTo>
                    <a:pt x="103140" y="1438275"/>
                    <a:pt x="124070" y="1476149"/>
                    <a:pt x="80590" y="1410929"/>
                  </a:cubicBezTo>
                  <a:cubicBezTo>
                    <a:pt x="44109" y="1301483"/>
                    <a:pt x="93320" y="1436389"/>
                    <a:pt x="37047" y="1323843"/>
                  </a:cubicBezTo>
                  <a:cubicBezTo>
                    <a:pt x="30205" y="1310159"/>
                    <a:pt x="27371" y="1294814"/>
                    <a:pt x="22533" y="1280300"/>
                  </a:cubicBezTo>
                  <a:cubicBezTo>
                    <a:pt x="-12679" y="1033831"/>
                    <a:pt x="-1860" y="1151002"/>
                    <a:pt x="22533" y="699729"/>
                  </a:cubicBezTo>
                  <a:cubicBezTo>
                    <a:pt x="25890" y="637616"/>
                    <a:pt x="52237" y="625806"/>
                    <a:pt x="80590" y="569100"/>
                  </a:cubicBezTo>
                  <a:cubicBezTo>
                    <a:pt x="158339" y="413602"/>
                    <a:pt x="-4233" y="688323"/>
                    <a:pt x="124133" y="452986"/>
                  </a:cubicBezTo>
                  <a:cubicBezTo>
                    <a:pt x="140839" y="422358"/>
                    <a:pt x="162838" y="394929"/>
                    <a:pt x="182190" y="365900"/>
                  </a:cubicBezTo>
                  <a:cubicBezTo>
                    <a:pt x="205167" y="331434"/>
                    <a:pt x="227751" y="295812"/>
                    <a:pt x="254761" y="264300"/>
                  </a:cubicBezTo>
                  <a:cubicBezTo>
                    <a:pt x="268119" y="248715"/>
                    <a:pt x="284946" y="236342"/>
                    <a:pt x="298304" y="220757"/>
                  </a:cubicBezTo>
                  <a:cubicBezTo>
                    <a:pt x="314047" y="202390"/>
                    <a:pt x="323767" y="178771"/>
                    <a:pt x="341847" y="162700"/>
                  </a:cubicBezTo>
                  <a:cubicBezTo>
                    <a:pt x="369725" y="137920"/>
                    <a:pt x="445613" y="92165"/>
                    <a:pt x="486990" y="75614"/>
                  </a:cubicBezTo>
                  <a:cubicBezTo>
                    <a:pt x="515400" y="64250"/>
                    <a:pt x="545047" y="56262"/>
                    <a:pt x="574076" y="46586"/>
                  </a:cubicBezTo>
                  <a:cubicBezTo>
                    <a:pt x="617132" y="32234"/>
                    <a:pt x="641137" y="22229"/>
                    <a:pt x="690190" y="17557"/>
                  </a:cubicBezTo>
                  <a:cubicBezTo>
                    <a:pt x="767401" y="10204"/>
                    <a:pt x="845009" y="7881"/>
                    <a:pt x="922418" y="3043"/>
                  </a:cubicBezTo>
                  <a:cubicBezTo>
                    <a:pt x="1115942" y="7881"/>
                    <a:pt x="1312039" y="-14268"/>
                    <a:pt x="1502990" y="17557"/>
                  </a:cubicBezTo>
                  <a:cubicBezTo>
                    <a:pt x="1533173" y="22587"/>
                    <a:pt x="1522342" y="75614"/>
                    <a:pt x="1532018" y="104643"/>
                  </a:cubicBezTo>
                  <a:lnTo>
                    <a:pt x="1575561" y="235271"/>
                  </a:lnTo>
                  <a:cubicBezTo>
                    <a:pt x="1580399" y="249785"/>
                    <a:pt x="1579258" y="267996"/>
                    <a:pt x="1590076" y="278814"/>
                  </a:cubicBezTo>
                  <a:cubicBezTo>
                    <a:pt x="1872316" y="561058"/>
                    <a:pt x="1565319" y="265443"/>
                    <a:pt x="1720704" y="394929"/>
                  </a:cubicBezTo>
                  <a:cubicBezTo>
                    <a:pt x="1736473" y="408069"/>
                    <a:pt x="1758349" y="418811"/>
                    <a:pt x="1764247" y="438471"/>
                  </a:cubicBezTo>
                  <a:cubicBezTo>
                    <a:pt x="1773979" y="470909"/>
                    <a:pt x="1761828" y="375576"/>
                    <a:pt x="1764247" y="554586"/>
                  </a:cubicBezTo>
                  <a:close/>
                </a:path>
              </a:pathLst>
            </a:custGeom>
            <a:solidFill>
              <a:srgbClr val="996666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4219560"/>
              <a:ext cx="2322720" cy="21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" descr=""/>
            <p:cNvPicPr/>
            <p:nvPr/>
          </p:nvPicPr>
          <p:blipFill>
            <a:blip r:embed="rId2"/>
            <a:stretch/>
          </p:blipFill>
          <p:spPr>
            <a:xfrm>
              <a:off x="2283840" y="4248360"/>
              <a:ext cx="2324160" cy="21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79280" y="18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小伙伴们胜利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3"/>
          <p:cNvSpPr/>
          <p:nvPr/>
        </p:nvSpPr>
        <p:spPr>
          <a:xfrm>
            <a:off x="468360" y="684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国资产阶级革命对世界产生了广泛的影响，从此，欧洲和世界其他一些国家在其影响下，进行了不同形式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资产阶级革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使世界历史进入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资产阶级革命时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标志着一个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新的历史时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11280" y="3090960"/>
            <a:ext cx="54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推动世界历史进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3933720"/>
            <a:ext cx="4608000" cy="2448000"/>
            <a:chOff x="0" y="3933720"/>
            <a:chExt cx="4608000" cy="2448000"/>
          </a:xfrm>
        </p:grpSpPr>
        <p:sp>
          <p:nvSpPr>
            <p:cNvPr id="285" name="任意多边形 1"/>
            <p:cNvSpPr/>
            <p:nvPr/>
          </p:nvSpPr>
          <p:spPr>
            <a:xfrm>
              <a:off x="1308240" y="3933720"/>
              <a:ext cx="2028600" cy="2448000"/>
            </a:xfrm>
            <a:custGeom>
              <a:avLst/>
              <a:gdLst/>
              <a:ahLst/>
              <a:rect l="l" t="t" r="r" b="b"/>
              <a:pathLst>
                <a:path w="1791635" h="1888991">
                  <a:moveTo>
                    <a:pt x="1764247" y="554586"/>
                  </a:moveTo>
                  <a:cubicBezTo>
                    <a:pt x="1766666" y="733596"/>
                    <a:pt x="1813723" y="859910"/>
                    <a:pt x="1778761" y="1512529"/>
                  </a:cubicBezTo>
                  <a:cubicBezTo>
                    <a:pt x="1775742" y="1568875"/>
                    <a:pt x="1748733" y="1601113"/>
                    <a:pt x="1720704" y="1643157"/>
                  </a:cubicBezTo>
                  <a:cubicBezTo>
                    <a:pt x="1708899" y="1678572"/>
                    <a:pt x="1705298" y="1702106"/>
                    <a:pt x="1677161" y="1730243"/>
                  </a:cubicBezTo>
                  <a:cubicBezTo>
                    <a:pt x="1664826" y="1742578"/>
                    <a:pt x="1647019" y="1748104"/>
                    <a:pt x="1633618" y="1759271"/>
                  </a:cubicBezTo>
                  <a:cubicBezTo>
                    <a:pt x="1617849" y="1772412"/>
                    <a:pt x="1608019" y="1792846"/>
                    <a:pt x="1590076" y="1802814"/>
                  </a:cubicBezTo>
                  <a:cubicBezTo>
                    <a:pt x="1563328" y="1817674"/>
                    <a:pt x="1532019" y="1822167"/>
                    <a:pt x="1502990" y="1831843"/>
                  </a:cubicBezTo>
                  <a:lnTo>
                    <a:pt x="1459447" y="1846357"/>
                  </a:lnTo>
                  <a:cubicBezTo>
                    <a:pt x="1204722" y="1931263"/>
                    <a:pt x="1431200" y="1860538"/>
                    <a:pt x="748247" y="1875386"/>
                  </a:cubicBezTo>
                  <a:cubicBezTo>
                    <a:pt x="636971" y="1870548"/>
                    <a:pt x="525118" y="1873171"/>
                    <a:pt x="414418" y="1860871"/>
                  </a:cubicBezTo>
                  <a:cubicBezTo>
                    <a:pt x="351005" y="1853825"/>
                    <a:pt x="341577" y="1805285"/>
                    <a:pt x="312818" y="1759271"/>
                  </a:cubicBezTo>
                  <a:cubicBezTo>
                    <a:pt x="303573" y="1744479"/>
                    <a:pt x="293929" y="1729924"/>
                    <a:pt x="283790" y="1715729"/>
                  </a:cubicBezTo>
                  <a:cubicBezTo>
                    <a:pt x="269729" y="1696044"/>
                    <a:pt x="255990" y="1676038"/>
                    <a:pt x="240247" y="1657671"/>
                  </a:cubicBezTo>
                  <a:cubicBezTo>
                    <a:pt x="194148" y="1603889"/>
                    <a:pt x="170503" y="1606682"/>
                    <a:pt x="138647" y="1527043"/>
                  </a:cubicBezTo>
                  <a:cubicBezTo>
                    <a:pt x="103140" y="1438275"/>
                    <a:pt x="124070" y="1476149"/>
                    <a:pt x="80590" y="1410929"/>
                  </a:cubicBezTo>
                  <a:cubicBezTo>
                    <a:pt x="44109" y="1301483"/>
                    <a:pt x="93320" y="1436389"/>
                    <a:pt x="37047" y="1323843"/>
                  </a:cubicBezTo>
                  <a:cubicBezTo>
                    <a:pt x="30205" y="1310159"/>
                    <a:pt x="27371" y="1294814"/>
                    <a:pt x="22533" y="1280300"/>
                  </a:cubicBezTo>
                  <a:cubicBezTo>
                    <a:pt x="-12679" y="1033831"/>
                    <a:pt x="-1860" y="1151002"/>
                    <a:pt x="22533" y="699729"/>
                  </a:cubicBezTo>
                  <a:cubicBezTo>
                    <a:pt x="25890" y="637616"/>
                    <a:pt x="52237" y="625806"/>
                    <a:pt x="80590" y="569100"/>
                  </a:cubicBezTo>
                  <a:cubicBezTo>
                    <a:pt x="158339" y="413602"/>
                    <a:pt x="-4233" y="688323"/>
                    <a:pt x="124133" y="452986"/>
                  </a:cubicBezTo>
                  <a:cubicBezTo>
                    <a:pt x="140839" y="422358"/>
                    <a:pt x="162838" y="394929"/>
                    <a:pt x="182190" y="365900"/>
                  </a:cubicBezTo>
                  <a:cubicBezTo>
                    <a:pt x="205167" y="331434"/>
                    <a:pt x="227751" y="295812"/>
                    <a:pt x="254761" y="264300"/>
                  </a:cubicBezTo>
                  <a:cubicBezTo>
                    <a:pt x="268119" y="248715"/>
                    <a:pt x="284946" y="236342"/>
                    <a:pt x="298304" y="220757"/>
                  </a:cubicBezTo>
                  <a:cubicBezTo>
                    <a:pt x="314047" y="202390"/>
                    <a:pt x="323767" y="178771"/>
                    <a:pt x="341847" y="162700"/>
                  </a:cubicBezTo>
                  <a:cubicBezTo>
                    <a:pt x="369725" y="137920"/>
                    <a:pt x="445613" y="92165"/>
                    <a:pt x="486990" y="75614"/>
                  </a:cubicBezTo>
                  <a:cubicBezTo>
                    <a:pt x="515400" y="64250"/>
                    <a:pt x="545047" y="56262"/>
                    <a:pt x="574076" y="46586"/>
                  </a:cubicBezTo>
                  <a:cubicBezTo>
                    <a:pt x="617132" y="32234"/>
                    <a:pt x="641137" y="22229"/>
                    <a:pt x="690190" y="17557"/>
                  </a:cubicBezTo>
                  <a:cubicBezTo>
                    <a:pt x="767401" y="10204"/>
                    <a:pt x="845009" y="7881"/>
                    <a:pt x="922418" y="3043"/>
                  </a:cubicBezTo>
                  <a:cubicBezTo>
                    <a:pt x="1115942" y="7881"/>
                    <a:pt x="1312039" y="-14268"/>
                    <a:pt x="1502990" y="17557"/>
                  </a:cubicBezTo>
                  <a:cubicBezTo>
                    <a:pt x="1533173" y="22587"/>
                    <a:pt x="1522342" y="75614"/>
                    <a:pt x="1532018" y="104643"/>
                  </a:cubicBezTo>
                  <a:lnTo>
                    <a:pt x="1575561" y="235271"/>
                  </a:lnTo>
                  <a:cubicBezTo>
                    <a:pt x="1580399" y="249785"/>
                    <a:pt x="1579258" y="267996"/>
                    <a:pt x="1590076" y="278814"/>
                  </a:cubicBezTo>
                  <a:cubicBezTo>
                    <a:pt x="1872316" y="561058"/>
                    <a:pt x="1565319" y="265443"/>
                    <a:pt x="1720704" y="394929"/>
                  </a:cubicBezTo>
                  <a:cubicBezTo>
                    <a:pt x="1736473" y="408069"/>
                    <a:pt x="1758349" y="418811"/>
                    <a:pt x="1764247" y="438471"/>
                  </a:cubicBezTo>
                  <a:cubicBezTo>
                    <a:pt x="1773979" y="470909"/>
                    <a:pt x="1761828" y="375576"/>
                    <a:pt x="1764247" y="554586"/>
                  </a:cubicBezTo>
                  <a:close/>
                </a:path>
              </a:pathLst>
            </a:custGeom>
            <a:solidFill>
              <a:srgbClr val="996666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4083840"/>
              <a:ext cx="232272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" descr=""/>
            <p:cNvPicPr/>
            <p:nvPr/>
          </p:nvPicPr>
          <p:blipFill>
            <a:blip r:embed="rId2"/>
            <a:stretch/>
          </p:blipFill>
          <p:spPr>
            <a:xfrm>
              <a:off x="2283840" y="4114440"/>
              <a:ext cx="2324160" cy="22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179280" y="115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小伙伴们胜利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539640" y="54936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总结英国资产阶级革命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65040" y="1413000"/>
            <a:ext cx="550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政治意义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推翻封建专制统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确立资产阶级统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经济意义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资本主义发展扫清了道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世界影响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推动世界历史进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59280" y="1484280"/>
            <a:ext cx="41050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59280" y="2565360"/>
            <a:ext cx="59054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3139920"/>
            <a:ext cx="590544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3933720"/>
            <a:ext cx="4608000" cy="2448000"/>
            <a:chOff x="0" y="3933720"/>
            <a:chExt cx="4608000" cy="2448000"/>
          </a:xfrm>
        </p:grpSpPr>
        <p:sp>
          <p:nvSpPr>
            <p:cNvPr id="295" name="任意多边形 1"/>
            <p:cNvSpPr/>
            <p:nvPr/>
          </p:nvSpPr>
          <p:spPr>
            <a:xfrm>
              <a:off x="1308240" y="3933720"/>
              <a:ext cx="2028600" cy="2448000"/>
            </a:xfrm>
            <a:custGeom>
              <a:avLst/>
              <a:gdLst/>
              <a:ahLst/>
              <a:rect l="l" t="t" r="r" b="b"/>
              <a:pathLst>
                <a:path w="1791635" h="1888991">
                  <a:moveTo>
                    <a:pt x="1764247" y="554586"/>
                  </a:moveTo>
                  <a:cubicBezTo>
                    <a:pt x="1766666" y="733596"/>
                    <a:pt x="1813723" y="859910"/>
                    <a:pt x="1778761" y="1512529"/>
                  </a:cubicBezTo>
                  <a:cubicBezTo>
                    <a:pt x="1775742" y="1568875"/>
                    <a:pt x="1748733" y="1601113"/>
                    <a:pt x="1720704" y="1643157"/>
                  </a:cubicBezTo>
                  <a:cubicBezTo>
                    <a:pt x="1708899" y="1678572"/>
                    <a:pt x="1705298" y="1702106"/>
                    <a:pt x="1677161" y="1730243"/>
                  </a:cubicBezTo>
                  <a:cubicBezTo>
                    <a:pt x="1664826" y="1742578"/>
                    <a:pt x="1647019" y="1748104"/>
                    <a:pt x="1633618" y="1759271"/>
                  </a:cubicBezTo>
                  <a:cubicBezTo>
                    <a:pt x="1617849" y="1772412"/>
                    <a:pt x="1608019" y="1792846"/>
                    <a:pt x="1590076" y="1802814"/>
                  </a:cubicBezTo>
                  <a:cubicBezTo>
                    <a:pt x="1563328" y="1817674"/>
                    <a:pt x="1532019" y="1822167"/>
                    <a:pt x="1502990" y="1831843"/>
                  </a:cubicBezTo>
                  <a:lnTo>
                    <a:pt x="1459447" y="1846357"/>
                  </a:lnTo>
                  <a:cubicBezTo>
                    <a:pt x="1204722" y="1931263"/>
                    <a:pt x="1431200" y="1860538"/>
                    <a:pt x="748247" y="1875386"/>
                  </a:cubicBezTo>
                  <a:cubicBezTo>
                    <a:pt x="636971" y="1870548"/>
                    <a:pt x="525118" y="1873171"/>
                    <a:pt x="414418" y="1860871"/>
                  </a:cubicBezTo>
                  <a:cubicBezTo>
                    <a:pt x="351005" y="1853825"/>
                    <a:pt x="341577" y="1805285"/>
                    <a:pt x="312818" y="1759271"/>
                  </a:cubicBezTo>
                  <a:cubicBezTo>
                    <a:pt x="303573" y="1744479"/>
                    <a:pt x="293929" y="1729924"/>
                    <a:pt x="283790" y="1715729"/>
                  </a:cubicBezTo>
                  <a:cubicBezTo>
                    <a:pt x="269729" y="1696044"/>
                    <a:pt x="255990" y="1676038"/>
                    <a:pt x="240247" y="1657671"/>
                  </a:cubicBezTo>
                  <a:cubicBezTo>
                    <a:pt x="194148" y="1603889"/>
                    <a:pt x="170503" y="1606682"/>
                    <a:pt x="138647" y="1527043"/>
                  </a:cubicBezTo>
                  <a:cubicBezTo>
                    <a:pt x="103140" y="1438275"/>
                    <a:pt x="124070" y="1476149"/>
                    <a:pt x="80590" y="1410929"/>
                  </a:cubicBezTo>
                  <a:cubicBezTo>
                    <a:pt x="44109" y="1301483"/>
                    <a:pt x="93320" y="1436389"/>
                    <a:pt x="37047" y="1323843"/>
                  </a:cubicBezTo>
                  <a:cubicBezTo>
                    <a:pt x="30205" y="1310159"/>
                    <a:pt x="27371" y="1294814"/>
                    <a:pt x="22533" y="1280300"/>
                  </a:cubicBezTo>
                  <a:cubicBezTo>
                    <a:pt x="-12679" y="1033831"/>
                    <a:pt x="-1860" y="1151002"/>
                    <a:pt x="22533" y="699729"/>
                  </a:cubicBezTo>
                  <a:cubicBezTo>
                    <a:pt x="25890" y="637616"/>
                    <a:pt x="52237" y="625806"/>
                    <a:pt x="80590" y="569100"/>
                  </a:cubicBezTo>
                  <a:cubicBezTo>
                    <a:pt x="158339" y="413602"/>
                    <a:pt x="-4233" y="688323"/>
                    <a:pt x="124133" y="452986"/>
                  </a:cubicBezTo>
                  <a:cubicBezTo>
                    <a:pt x="140839" y="422358"/>
                    <a:pt x="162838" y="394929"/>
                    <a:pt x="182190" y="365900"/>
                  </a:cubicBezTo>
                  <a:cubicBezTo>
                    <a:pt x="205167" y="331434"/>
                    <a:pt x="227751" y="295812"/>
                    <a:pt x="254761" y="264300"/>
                  </a:cubicBezTo>
                  <a:cubicBezTo>
                    <a:pt x="268119" y="248715"/>
                    <a:pt x="284946" y="236342"/>
                    <a:pt x="298304" y="220757"/>
                  </a:cubicBezTo>
                  <a:cubicBezTo>
                    <a:pt x="314047" y="202390"/>
                    <a:pt x="323767" y="178771"/>
                    <a:pt x="341847" y="162700"/>
                  </a:cubicBezTo>
                  <a:cubicBezTo>
                    <a:pt x="369725" y="137920"/>
                    <a:pt x="445613" y="92165"/>
                    <a:pt x="486990" y="75614"/>
                  </a:cubicBezTo>
                  <a:cubicBezTo>
                    <a:pt x="515400" y="64250"/>
                    <a:pt x="545047" y="56262"/>
                    <a:pt x="574076" y="46586"/>
                  </a:cubicBezTo>
                  <a:cubicBezTo>
                    <a:pt x="617132" y="32234"/>
                    <a:pt x="641137" y="22229"/>
                    <a:pt x="690190" y="17557"/>
                  </a:cubicBezTo>
                  <a:cubicBezTo>
                    <a:pt x="767401" y="10204"/>
                    <a:pt x="845009" y="7881"/>
                    <a:pt x="922418" y="3043"/>
                  </a:cubicBezTo>
                  <a:cubicBezTo>
                    <a:pt x="1115942" y="7881"/>
                    <a:pt x="1312039" y="-14268"/>
                    <a:pt x="1502990" y="17557"/>
                  </a:cubicBezTo>
                  <a:cubicBezTo>
                    <a:pt x="1533173" y="22587"/>
                    <a:pt x="1522342" y="75614"/>
                    <a:pt x="1532018" y="104643"/>
                  </a:cubicBezTo>
                  <a:lnTo>
                    <a:pt x="1575561" y="235271"/>
                  </a:lnTo>
                  <a:cubicBezTo>
                    <a:pt x="1580399" y="249785"/>
                    <a:pt x="1579258" y="267996"/>
                    <a:pt x="1590076" y="278814"/>
                  </a:cubicBezTo>
                  <a:cubicBezTo>
                    <a:pt x="1872316" y="561058"/>
                    <a:pt x="1565319" y="265443"/>
                    <a:pt x="1720704" y="394929"/>
                  </a:cubicBezTo>
                  <a:cubicBezTo>
                    <a:pt x="1736473" y="408069"/>
                    <a:pt x="1758349" y="418811"/>
                    <a:pt x="1764247" y="438471"/>
                  </a:cubicBezTo>
                  <a:cubicBezTo>
                    <a:pt x="1773979" y="470909"/>
                    <a:pt x="1761828" y="375576"/>
                    <a:pt x="1764247" y="554586"/>
                  </a:cubicBezTo>
                  <a:close/>
                </a:path>
              </a:pathLst>
            </a:custGeom>
            <a:solidFill>
              <a:srgbClr val="996666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4083840"/>
              <a:ext cx="232272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" descr=""/>
            <p:cNvPicPr/>
            <p:nvPr/>
          </p:nvPicPr>
          <p:blipFill>
            <a:blip r:embed="rId2"/>
            <a:stretch/>
          </p:blipFill>
          <p:spPr>
            <a:xfrm>
              <a:off x="2283840" y="4114440"/>
              <a:ext cx="2324160" cy="22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48040" y="1197000"/>
            <a:ext cx="667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国资产阶级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755640" y="404640"/>
            <a:ext cx="287280" cy="59025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53720 h 5902560"/>
              <a:gd name="textAreaBottom" fmla="*/ 5748840 h 590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403280" y="1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91636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封建专制统治阻碍资本主义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042920" y="551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340000" y="558972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8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权利法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确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君主立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1042920" y="610092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政治、经济、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2843280" y="9079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资产阶级、新贵族  克伦威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1332000" y="981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领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5" descr=""/>
          <p:cNvPicPr/>
          <p:nvPr/>
        </p:nvPicPr>
        <p:blipFill>
          <a:blip r:embed="rId1"/>
          <a:srcRect l="0" t="0" r="42911" b="14560"/>
          <a:stretch/>
        </p:blipFill>
        <p:spPr>
          <a:xfrm>
            <a:off x="1979640" y="1773360"/>
            <a:ext cx="6264360" cy="28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6"/>
          <p:cNvSpPr/>
          <p:nvPr/>
        </p:nvSpPr>
        <p:spPr>
          <a:xfrm>
            <a:off x="1116000" y="4437000"/>
            <a:ext cx="309564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查理一世召开议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843280" y="1641600"/>
            <a:ext cx="273672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死查理一世成立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5219640" y="4521240"/>
            <a:ext cx="345600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查理二世复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6156360" y="2349360"/>
            <a:ext cx="2736720" cy="1068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8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宫廷政变另立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042920" y="32367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"/>
          <p:cNvSpPr/>
          <p:nvPr/>
        </p:nvSpPr>
        <p:spPr>
          <a:xfrm>
            <a:off x="539640" y="333360"/>
            <a:ext cx="826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天下大小事务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皆朕一人亲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无可旁贷。无论巨细，朕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躬自断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康熙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经议会的批准，国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征税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和平时期维持常备军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随意废除法律，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停止法律的执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权利法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539640" y="3933720"/>
            <a:ext cx="81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上两则材料反映了两个国家的政治制度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谈谈你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世纪中期东西方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3573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8360" y="29988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“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后世界贸易中心逐渐转移到大西洋和西北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济力量的转移预示着新大国兴起。”引文中的“新大国”指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西班牙 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葡萄牙 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法国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英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英国资产阶级革命是英国历史上的一个分水岭，主要是因为它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改变了社会性质    　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处死了封建君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确立了君主立宪制度 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创立了议会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今天的英国、荷兰、日本等资本主义国家仍保留国王或天皇的称号，这一历史现象与下列哪一部文献确立的政体有关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权利法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    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独立宣言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权宣言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 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破仑法典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93080" y="1413000"/>
            <a:ext cx="717480" cy="718920"/>
          </a:xfrm>
          <a:prstGeom prst="smileyFace">
            <a:avLst>
              <a:gd name="adj" fmla="val 9282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3213000"/>
            <a:ext cx="717840" cy="719280"/>
          </a:xfrm>
          <a:prstGeom prst="smileyFace">
            <a:avLst>
              <a:gd name="adj" fmla="val 9282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941720"/>
            <a:ext cx="717840" cy="719280"/>
          </a:xfrm>
          <a:prstGeom prst="smileyFace">
            <a:avLst>
              <a:gd name="adj" fmla="val 9282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4581360"/>
            <a:chOff x="0" y="0"/>
            <a:chExt cx="9144000" cy="458136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24000" y="45000"/>
              <a:ext cx="18396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rot="1566600">
            <a:off x="4140000" y="1268280"/>
            <a:ext cx="50472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1320" y="4568760"/>
            <a:ext cx="583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图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谁的航线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处新大陆是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幅地图应该出现在什么事件之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一事件的意义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872400">
            <a:off x="1767600" y="236160"/>
            <a:ext cx="1039680" cy="39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0760" y="1528920"/>
            <a:ext cx="1487520" cy="546120"/>
          </a:xfrm>
          <a:custGeom>
            <a:avLst/>
            <a:gdLst/>
            <a:ahLst/>
            <a:rect l="l" t="t" r="r" b="b"/>
            <a:pathLst>
              <a:path w="937" h="344">
                <a:moveTo>
                  <a:pt x="937" y="0"/>
                </a:moveTo>
                <a:cubicBezTo>
                  <a:pt x="890" y="49"/>
                  <a:pt x="935" y="10"/>
                  <a:pt x="886" y="34"/>
                </a:cubicBezTo>
                <a:cubicBezTo>
                  <a:pt x="788" y="81"/>
                  <a:pt x="919" y="23"/>
                  <a:pt x="843" y="69"/>
                </a:cubicBezTo>
                <a:cubicBezTo>
                  <a:pt x="817" y="85"/>
                  <a:pt x="776" y="86"/>
                  <a:pt x="748" y="94"/>
                </a:cubicBezTo>
                <a:cubicBezTo>
                  <a:pt x="707" y="105"/>
                  <a:pt x="678" y="127"/>
                  <a:pt x="637" y="137"/>
                </a:cubicBezTo>
                <a:cubicBezTo>
                  <a:pt x="612" y="162"/>
                  <a:pt x="585" y="163"/>
                  <a:pt x="551" y="172"/>
                </a:cubicBezTo>
                <a:cubicBezTo>
                  <a:pt x="535" y="166"/>
                  <a:pt x="511" y="160"/>
                  <a:pt x="499" y="146"/>
                </a:cubicBezTo>
                <a:cubicBezTo>
                  <a:pt x="493" y="139"/>
                  <a:pt x="496" y="127"/>
                  <a:pt x="490" y="120"/>
                </a:cubicBezTo>
                <a:cubicBezTo>
                  <a:pt x="473" y="99"/>
                  <a:pt x="437" y="93"/>
                  <a:pt x="413" y="86"/>
                </a:cubicBezTo>
                <a:cubicBezTo>
                  <a:pt x="387" y="89"/>
                  <a:pt x="361" y="87"/>
                  <a:pt x="336" y="94"/>
                </a:cubicBezTo>
                <a:cubicBezTo>
                  <a:pt x="328" y="96"/>
                  <a:pt x="326" y="108"/>
                  <a:pt x="319" y="112"/>
                </a:cubicBezTo>
                <a:cubicBezTo>
                  <a:pt x="311" y="117"/>
                  <a:pt x="302" y="117"/>
                  <a:pt x="293" y="120"/>
                </a:cubicBezTo>
                <a:cubicBezTo>
                  <a:pt x="271" y="142"/>
                  <a:pt x="246" y="171"/>
                  <a:pt x="215" y="180"/>
                </a:cubicBezTo>
                <a:cubicBezTo>
                  <a:pt x="143" y="202"/>
                  <a:pt x="56" y="213"/>
                  <a:pt x="0" y="266"/>
                </a:cubicBezTo>
                <a:cubicBezTo>
                  <a:pt x="32" y="298"/>
                  <a:pt x="69" y="329"/>
                  <a:pt x="112" y="344"/>
                </a:cubicBezTo>
                <a:cubicBezTo>
                  <a:pt x="184" y="333"/>
                  <a:pt x="245" y="316"/>
                  <a:pt x="319" y="309"/>
                </a:cubicBezTo>
                <a:cubicBezTo>
                  <a:pt x="396" y="283"/>
                  <a:pt x="474" y="265"/>
                  <a:pt x="551" y="241"/>
                </a:cubicBezTo>
                <a:cubicBezTo>
                  <a:pt x="599" y="190"/>
                  <a:pt x="700" y="206"/>
                  <a:pt x="766" y="198"/>
                </a:cubicBezTo>
                <a:cubicBezTo>
                  <a:pt x="802" y="185"/>
                  <a:pt x="833" y="166"/>
                  <a:pt x="869" y="155"/>
                </a:cubicBezTo>
                <a:cubicBezTo>
                  <a:pt x="875" y="149"/>
                  <a:pt x="879" y="141"/>
                  <a:pt x="886" y="137"/>
                </a:cubicBezTo>
                <a:cubicBezTo>
                  <a:pt x="896" y="132"/>
                  <a:pt x="920" y="129"/>
                  <a:pt x="920" y="12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907920"/>
            <a:ext cx="560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700280"/>
            <a:ext cx="56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24000" y="16992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4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一个晴朗的冬日，宴会大厅前的广场上，凌晨就聚集了上千位伦敦市民，他们等待着一场断头的刑罚，受刑的就是被议会宣判为“暴君、杀人犯和国家公敌”的国王查理一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材料描述的历史事件出现于哪国资产阶级革命中？领导人是谁？革命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通过革命建立起了什么政治制度？为该政治制度提供法律保障的文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83640" y="3549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英国  克伦威尔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1512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君主立宪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87280" y="4076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封建专制统治阻碍资本主义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7960" y="55897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权利法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6560" y="3729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下面是关于英国资产阶级革命的一段表述，其中有两处错误，请找出并加以改正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国资产阶级革命期间，罗伯斯庇尔率领的议会军队打败了国王军队，取得了最后胜利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8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英国议会通过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权利法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以法律形式对国王的权利进行了明确的制约，这样共和制的资产阶级统治开始确立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错误＿＿＿＿＿＿改正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错误＿＿＿＿＿＿改正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31120" y="378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罗伯斯庇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65760" y="37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克伦威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56040" y="465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共和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1480" y="4649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君主立宪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134a615ec479ef590855a9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Oval 8"/>
          <p:cNvSpPr/>
          <p:nvPr/>
        </p:nvSpPr>
        <p:spPr>
          <a:xfrm rot="18741000">
            <a:off x="1324080" y="1063080"/>
            <a:ext cx="3745080" cy="1827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2987640" y="4635360"/>
            <a:ext cx="5689800" cy="2222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londun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96" name="矩形 6" descr=""/>
          <p:cNvPicPr/>
          <p:nvPr/>
        </p:nvPicPr>
        <p:blipFill>
          <a:blip r:embed="rId2"/>
          <a:stretch/>
        </p:blipFill>
        <p:spPr>
          <a:xfrm>
            <a:off x="1530360" y="573120"/>
            <a:ext cx="7862760" cy="18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1187280" y="220500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、路遇巨石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革命起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79280" y="3573360"/>
            <a:ext cx="4753080" cy="2664000"/>
            <a:chOff x="179280" y="3573360"/>
            <a:chExt cx="4753080" cy="2664000"/>
          </a:xfrm>
        </p:grpSpPr>
        <p:sp>
          <p:nvSpPr>
            <p:cNvPr id="199" name="任意多边形 1"/>
            <p:cNvSpPr/>
            <p:nvPr/>
          </p:nvSpPr>
          <p:spPr>
            <a:xfrm>
              <a:off x="1528920" y="3573360"/>
              <a:ext cx="2092320" cy="2664000"/>
            </a:xfrm>
            <a:custGeom>
              <a:avLst/>
              <a:gdLst/>
              <a:ahLst/>
              <a:rect l="l" t="t" r="r" b="b"/>
              <a:pathLst>
                <a:path w="1791635" h="1888991">
                  <a:moveTo>
                    <a:pt x="1764247" y="554586"/>
                  </a:moveTo>
                  <a:cubicBezTo>
                    <a:pt x="1766666" y="733596"/>
                    <a:pt x="1813723" y="859910"/>
                    <a:pt x="1778761" y="1512529"/>
                  </a:cubicBezTo>
                  <a:cubicBezTo>
                    <a:pt x="1775742" y="1568875"/>
                    <a:pt x="1748733" y="1601113"/>
                    <a:pt x="1720704" y="1643157"/>
                  </a:cubicBezTo>
                  <a:cubicBezTo>
                    <a:pt x="1708899" y="1678572"/>
                    <a:pt x="1705298" y="1702106"/>
                    <a:pt x="1677161" y="1730243"/>
                  </a:cubicBezTo>
                  <a:cubicBezTo>
                    <a:pt x="1664826" y="1742578"/>
                    <a:pt x="1647019" y="1748104"/>
                    <a:pt x="1633618" y="1759271"/>
                  </a:cubicBezTo>
                  <a:cubicBezTo>
                    <a:pt x="1617849" y="1772412"/>
                    <a:pt x="1608019" y="1792846"/>
                    <a:pt x="1590076" y="1802814"/>
                  </a:cubicBezTo>
                  <a:cubicBezTo>
                    <a:pt x="1563328" y="1817674"/>
                    <a:pt x="1532019" y="1822167"/>
                    <a:pt x="1502990" y="1831843"/>
                  </a:cubicBezTo>
                  <a:lnTo>
                    <a:pt x="1459447" y="1846357"/>
                  </a:lnTo>
                  <a:cubicBezTo>
                    <a:pt x="1204722" y="1931263"/>
                    <a:pt x="1431200" y="1860538"/>
                    <a:pt x="748247" y="1875386"/>
                  </a:cubicBezTo>
                  <a:cubicBezTo>
                    <a:pt x="636971" y="1870548"/>
                    <a:pt x="525118" y="1873171"/>
                    <a:pt x="414418" y="1860871"/>
                  </a:cubicBezTo>
                  <a:cubicBezTo>
                    <a:pt x="351005" y="1853825"/>
                    <a:pt x="341577" y="1805285"/>
                    <a:pt x="312818" y="1759271"/>
                  </a:cubicBezTo>
                  <a:cubicBezTo>
                    <a:pt x="303573" y="1744479"/>
                    <a:pt x="293929" y="1729924"/>
                    <a:pt x="283790" y="1715729"/>
                  </a:cubicBezTo>
                  <a:cubicBezTo>
                    <a:pt x="269729" y="1696044"/>
                    <a:pt x="255990" y="1676038"/>
                    <a:pt x="240247" y="1657671"/>
                  </a:cubicBezTo>
                  <a:cubicBezTo>
                    <a:pt x="194148" y="1603889"/>
                    <a:pt x="170503" y="1606682"/>
                    <a:pt x="138647" y="1527043"/>
                  </a:cubicBezTo>
                  <a:cubicBezTo>
                    <a:pt x="103140" y="1438275"/>
                    <a:pt x="124070" y="1476149"/>
                    <a:pt x="80590" y="1410929"/>
                  </a:cubicBezTo>
                  <a:cubicBezTo>
                    <a:pt x="44109" y="1301483"/>
                    <a:pt x="93320" y="1436389"/>
                    <a:pt x="37047" y="1323843"/>
                  </a:cubicBezTo>
                  <a:cubicBezTo>
                    <a:pt x="30205" y="1310159"/>
                    <a:pt x="27371" y="1294814"/>
                    <a:pt x="22533" y="1280300"/>
                  </a:cubicBezTo>
                  <a:cubicBezTo>
                    <a:pt x="-12679" y="1033831"/>
                    <a:pt x="-1860" y="1151002"/>
                    <a:pt x="22533" y="699729"/>
                  </a:cubicBezTo>
                  <a:cubicBezTo>
                    <a:pt x="25890" y="637616"/>
                    <a:pt x="52237" y="625806"/>
                    <a:pt x="80590" y="569100"/>
                  </a:cubicBezTo>
                  <a:cubicBezTo>
                    <a:pt x="158339" y="413602"/>
                    <a:pt x="-4233" y="688323"/>
                    <a:pt x="124133" y="452986"/>
                  </a:cubicBezTo>
                  <a:cubicBezTo>
                    <a:pt x="140839" y="422358"/>
                    <a:pt x="162838" y="394929"/>
                    <a:pt x="182190" y="365900"/>
                  </a:cubicBezTo>
                  <a:cubicBezTo>
                    <a:pt x="205167" y="331434"/>
                    <a:pt x="227751" y="295812"/>
                    <a:pt x="254761" y="264300"/>
                  </a:cubicBezTo>
                  <a:cubicBezTo>
                    <a:pt x="268119" y="248715"/>
                    <a:pt x="284946" y="236342"/>
                    <a:pt x="298304" y="220757"/>
                  </a:cubicBezTo>
                  <a:cubicBezTo>
                    <a:pt x="314047" y="202390"/>
                    <a:pt x="323767" y="178771"/>
                    <a:pt x="341847" y="162700"/>
                  </a:cubicBezTo>
                  <a:cubicBezTo>
                    <a:pt x="369725" y="137920"/>
                    <a:pt x="445613" y="92165"/>
                    <a:pt x="486990" y="75614"/>
                  </a:cubicBezTo>
                  <a:cubicBezTo>
                    <a:pt x="515400" y="64250"/>
                    <a:pt x="545047" y="56262"/>
                    <a:pt x="574076" y="46586"/>
                  </a:cubicBezTo>
                  <a:cubicBezTo>
                    <a:pt x="617132" y="32234"/>
                    <a:pt x="641137" y="22229"/>
                    <a:pt x="690190" y="17557"/>
                  </a:cubicBezTo>
                  <a:cubicBezTo>
                    <a:pt x="767401" y="10204"/>
                    <a:pt x="845009" y="7881"/>
                    <a:pt x="922418" y="3043"/>
                  </a:cubicBezTo>
                  <a:cubicBezTo>
                    <a:pt x="1115942" y="7881"/>
                    <a:pt x="1312039" y="-14268"/>
                    <a:pt x="1502990" y="17557"/>
                  </a:cubicBezTo>
                  <a:cubicBezTo>
                    <a:pt x="1533173" y="22587"/>
                    <a:pt x="1522342" y="75614"/>
                    <a:pt x="1532018" y="104643"/>
                  </a:cubicBezTo>
                  <a:lnTo>
                    <a:pt x="1575561" y="235271"/>
                  </a:lnTo>
                  <a:cubicBezTo>
                    <a:pt x="1580399" y="249785"/>
                    <a:pt x="1579258" y="267996"/>
                    <a:pt x="1590076" y="278814"/>
                  </a:cubicBezTo>
                  <a:cubicBezTo>
                    <a:pt x="1872316" y="561058"/>
                    <a:pt x="1565319" y="265443"/>
                    <a:pt x="1720704" y="394929"/>
                  </a:cubicBezTo>
                  <a:cubicBezTo>
                    <a:pt x="1736473" y="408069"/>
                    <a:pt x="1758349" y="418811"/>
                    <a:pt x="1764247" y="438471"/>
                  </a:cubicBezTo>
                  <a:cubicBezTo>
                    <a:pt x="1773979" y="470909"/>
                    <a:pt x="1761828" y="375576"/>
                    <a:pt x="1764247" y="554586"/>
                  </a:cubicBezTo>
                  <a:close/>
                </a:path>
              </a:pathLst>
            </a:custGeom>
            <a:solidFill>
              <a:srgbClr val="996666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3736800"/>
              <a:ext cx="23958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" descr=""/>
            <p:cNvPicPr/>
            <p:nvPr/>
          </p:nvPicPr>
          <p:blipFill>
            <a:blip r:embed="rId2"/>
            <a:stretch/>
          </p:blipFill>
          <p:spPr>
            <a:xfrm>
              <a:off x="2535120" y="3770280"/>
              <a:ext cx="2397240" cy="2467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7">
            <a:hlinkClick r:id="rId1" action="ppaction://hlinksldjump"/>
          </p:cNvPr>
          <p:cNvSpPr/>
          <p:nvPr/>
        </p:nvSpPr>
        <p:spPr>
          <a:xfrm>
            <a:off x="324000" y="773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汤姆生活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初的英国，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雇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几百个人，开了间制呢手工工场。生产的呢绒远销海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杰瑞是一个同时期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贵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他有大片的牧场，放养成群的绵羊。后来又开了家小型的工场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雇佣工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产呢绒，并很快成了抢手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900000" y="3789360"/>
            <a:ext cx="891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汤姆和杰瑞分别是英国哪两个阶级的代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他们的生财之道有什么共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2470320" y="4292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资产阶级  新贵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09960" y="53053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事资本主义经济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1238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小伙伴们手拉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24000" y="909720"/>
            <a:ext cx="85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阅读课本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页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英国资本主义发展遇到的拦路巨石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3068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阻碍英国资本主义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4392720"/>
            <a:ext cx="331164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8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小伙伴们惊呆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"/>
          <p:cNvSpPr/>
          <p:nvPr/>
        </p:nvSpPr>
        <p:spPr>
          <a:xfrm>
            <a:off x="1187280" y="3789360"/>
            <a:ext cx="2156040" cy="2160720"/>
          </a:xfrm>
          <a:custGeom>
            <a:avLst/>
            <a:gdLst/>
            <a:ahLst/>
            <a:rect l="l" t="t" r="r" b="b"/>
            <a:pathLst>
              <a:path w="1791635" h="1888991">
                <a:moveTo>
                  <a:pt x="1764247" y="554586"/>
                </a:moveTo>
                <a:cubicBezTo>
                  <a:pt x="1766666" y="733596"/>
                  <a:pt x="1813723" y="859910"/>
                  <a:pt x="1778761" y="1512529"/>
                </a:cubicBezTo>
                <a:cubicBezTo>
                  <a:pt x="1775742" y="1568875"/>
                  <a:pt x="1748733" y="1601113"/>
                  <a:pt x="1720704" y="1643157"/>
                </a:cubicBezTo>
                <a:cubicBezTo>
                  <a:pt x="1708899" y="1678572"/>
                  <a:pt x="1705298" y="1702106"/>
                  <a:pt x="1677161" y="1730243"/>
                </a:cubicBezTo>
                <a:cubicBezTo>
                  <a:pt x="1664826" y="1742578"/>
                  <a:pt x="1647019" y="1748104"/>
                  <a:pt x="1633618" y="1759271"/>
                </a:cubicBezTo>
                <a:cubicBezTo>
                  <a:pt x="1617849" y="1772412"/>
                  <a:pt x="1608019" y="1792846"/>
                  <a:pt x="1590076" y="1802814"/>
                </a:cubicBezTo>
                <a:cubicBezTo>
                  <a:pt x="1563328" y="1817674"/>
                  <a:pt x="1532019" y="1822167"/>
                  <a:pt x="1502990" y="1831843"/>
                </a:cubicBezTo>
                <a:lnTo>
                  <a:pt x="1459447" y="1846357"/>
                </a:lnTo>
                <a:cubicBezTo>
                  <a:pt x="1204722" y="1931263"/>
                  <a:pt x="1431200" y="1860538"/>
                  <a:pt x="748247" y="1875386"/>
                </a:cubicBezTo>
                <a:cubicBezTo>
                  <a:pt x="636971" y="1870548"/>
                  <a:pt x="525118" y="1873171"/>
                  <a:pt x="414418" y="1860871"/>
                </a:cubicBezTo>
                <a:cubicBezTo>
                  <a:pt x="351005" y="1853825"/>
                  <a:pt x="341577" y="1805285"/>
                  <a:pt x="312818" y="1759271"/>
                </a:cubicBezTo>
                <a:cubicBezTo>
                  <a:pt x="303573" y="1744479"/>
                  <a:pt x="293929" y="1729924"/>
                  <a:pt x="283790" y="1715729"/>
                </a:cubicBezTo>
                <a:cubicBezTo>
                  <a:pt x="269729" y="1696044"/>
                  <a:pt x="255990" y="1676038"/>
                  <a:pt x="240247" y="1657671"/>
                </a:cubicBezTo>
                <a:cubicBezTo>
                  <a:pt x="194148" y="1603889"/>
                  <a:pt x="170503" y="1606682"/>
                  <a:pt x="138647" y="1527043"/>
                </a:cubicBezTo>
                <a:cubicBezTo>
                  <a:pt x="103140" y="1438275"/>
                  <a:pt x="124070" y="1476149"/>
                  <a:pt x="80590" y="1410929"/>
                </a:cubicBezTo>
                <a:cubicBezTo>
                  <a:pt x="44109" y="1301483"/>
                  <a:pt x="93320" y="1436389"/>
                  <a:pt x="37047" y="1323843"/>
                </a:cubicBezTo>
                <a:cubicBezTo>
                  <a:pt x="30205" y="1310159"/>
                  <a:pt x="27371" y="1294814"/>
                  <a:pt x="22533" y="1280300"/>
                </a:cubicBezTo>
                <a:cubicBezTo>
                  <a:pt x="-12679" y="1033831"/>
                  <a:pt x="-1860" y="1151002"/>
                  <a:pt x="22533" y="699729"/>
                </a:cubicBezTo>
                <a:cubicBezTo>
                  <a:pt x="25890" y="637616"/>
                  <a:pt x="52237" y="625806"/>
                  <a:pt x="80590" y="569100"/>
                </a:cubicBezTo>
                <a:cubicBezTo>
                  <a:pt x="158339" y="413602"/>
                  <a:pt x="-4233" y="688323"/>
                  <a:pt x="124133" y="452986"/>
                </a:cubicBezTo>
                <a:cubicBezTo>
                  <a:pt x="140839" y="422358"/>
                  <a:pt x="162838" y="394929"/>
                  <a:pt x="182190" y="365900"/>
                </a:cubicBezTo>
                <a:cubicBezTo>
                  <a:pt x="205167" y="331434"/>
                  <a:pt x="227751" y="295812"/>
                  <a:pt x="254761" y="264300"/>
                </a:cubicBezTo>
                <a:cubicBezTo>
                  <a:pt x="268119" y="248715"/>
                  <a:pt x="284946" y="236342"/>
                  <a:pt x="298304" y="220757"/>
                </a:cubicBezTo>
                <a:cubicBezTo>
                  <a:pt x="314047" y="202390"/>
                  <a:pt x="323767" y="178771"/>
                  <a:pt x="341847" y="162700"/>
                </a:cubicBezTo>
                <a:cubicBezTo>
                  <a:pt x="369725" y="137920"/>
                  <a:pt x="445613" y="92165"/>
                  <a:pt x="486990" y="75614"/>
                </a:cubicBezTo>
                <a:cubicBezTo>
                  <a:pt x="515400" y="64250"/>
                  <a:pt x="545047" y="56262"/>
                  <a:pt x="574076" y="46586"/>
                </a:cubicBezTo>
                <a:cubicBezTo>
                  <a:pt x="617132" y="32234"/>
                  <a:pt x="641137" y="22229"/>
                  <a:pt x="690190" y="17557"/>
                </a:cubicBezTo>
                <a:cubicBezTo>
                  <a:pt x="767401" y="10204"/>
                  <a:pt x="845009" y="7881"/>
                  <a:pt x="922418" y="3043"/>
                </a:cubicBezTo>
                <a:cubicBezTo>
                  <a:pt x="1115942" y="7881"/>
                  <a:pt x="1312039" y="-14268"/>
                  <a:pt x="1502990" y="17557"/>
                </a:cubicBezTo>
                <a:cubicBezTo>
                  <a:pt x="1533173" y="22587"/>
                  <a:pt x="1522342" y="75614"/>
                  <a:pt x="1532018" y="104643"/>
                </a:cubicBezTo>
                <a:lnTo>
                  <a:pt x="1575561" y="235271"/>
                </a:lnTo>
                <a:cubicBezTo>
                  <a:pt x="1580399" y="249785"/>
                  <a:pt x="1579258" y="267996"/>
                  <a:pt x="1590076" y="278814"/>
                </a:cubicBezTo>
                <a:cubicBezTo>
                  <a:pt x="1872316" y="561058"/>
                  <a:pt x="1565319" y="265443"/>
                  <a:pt x="1720704" y="394929"/>
                </a:cubicBezTo>
                <a:cubicBezTo>
                  <a:pt x="1736473" y="408069"/>
                  <a:pt x="1758349" y="418811"/>
                  <a:pt x="1764247" y="438471"/>
                </a:cubicBezTo>
                <a:cubicBezTo>
                  <a:pt x="1773979" y="470909"/>
                  <a:pt x="1761828" y="375576"/>
                  <a:pt x="1764247" y="554586"/>
                </a:cubicBezTo>
                <a:close/>
              </a:path>
            </a:pathLst>
          </a:custGeom>
          <a:solidFill>
            <a:srgbClr val="996666"/>
          </a:solidFill>
          <a:ln w="25560">
            <a:solidFill>
              <a:srgbClr val="6f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334040" y="3645000"/>
            <a:ext cx="2469960" cy="2000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5292720" y="3660840"/>
            <a:ext cx="2470320" cy="2000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82040" y="306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封建专制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1187280" y="2205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、力搬巨石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革命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9280" y="3573360"/>
            <a:ext cx="4753080" cy="2664000"/>
            <a:chOff x="179280" y="3573360"/>
            <a:chExt cx="4753080" cy="2664000"/>
          </a:xfrm>
        </p:grpSpPr>
        <p:sp>
          <p:nvSpPr>
            <p:cNvPr id="217" name="任意多边形 1"/>
            <p:cNvSpPr/>
            <p:nvPr/>
          </p:nvSpPr>
          <p:spPr>
            <a:xfrm>
              <a:off x="1528920" y="3573360"/>
              <a:ext cx="2092320" cy="2664000"/>
            </a:xfrm>
            <a:custGeom>
              <a:avLst/>
              <a:gdLst/>
              <a:ahLst/>
              <a:rect l="l" t="t" r="r" b="b"/>
              <a:pathLst>
                <a:path w="1791635" h="1888991">
                  <a:moveTo>
                    <a:pt x="1764247" y="554586"/>
                  </a:moveTo>
                  <a:cubicBezTo>
                    <a:pt x="1766666" y="733596"/>
                    <a:pt x="1813723" y="859910"/>
                    <a:pt x="1778761" y="1512529"/>
                  </a:cubicBezTo>
                  <a:cubicBezTo>
                    <a:pt x="1775742" y="1568875"/>
                    <a:pt x="1748733" y="1601113"/>
                    <a:pt x="1720704" y="1643157"/>
                  </a:cubicBezTo>
                  <a:cubicBezTo>
                    <a:pt x="1708899" y="1678572"/>
                    <a:pt x="1705298" y="1702106"/>
                    <a:pt x="1677161" y="1730243"/>
                  </a:cubicBezTo>
                  <a:cubicBezTo>
                    <a:pt x="1664826" y="1742578"/>
                    <a:pt x="1647019" y="1748104"/>
                    <a:pt x="1633618" y="1759271"/>
                  </a:cubicBezTo>
                  <a:cubicBezTo>
                    <a:pt x="1617849" y="1772412"/>
                    <a:pt x="1608019" y="1792846"/>
                    <a:pt x="1590076" y="1802814"/>
                  </a:cubicBezTo>
                  <a:cubicBezTo>
                    <a:pt x="1563328" y="1817674"/>
                    <a:pt x="1532019" y="1822167"/>
                    <a:pt x="1502990" y="1831843"/>
                  </a:cubicBezTo>
                  <a:lnTo>
                    <a:pt x="1459447" y="1846357"/>
                  </a:lnTo>
                  <a:cubicBezTo>
                    <a:pt x="1204722" y="1931263"/>
                    <a:pt x="1431200" y="1860538"/>
                    <a:pt x="748247" y="1875386"/>
                  </a:cubicBezTo>
                  <a:cubicBezTo>
                    <a:pt x="636971" y="1870548"/>
                    <a:pt x="525118" y="1873171"/>
                    <a:pt x="414418" y="1860871"/>
                  </a:cubicBezTo>
                  <a:cubicBezTo>
                    <a:pt x="351005" y="1853825"/>
                    <a:pt x="341577" y="1805285"/>
                    <a:pt x="312818" y="1759271"/>
                  </a:cubicBezTo>
                  <a:cubicBezTo>
                    <a:pt x="303573" y="1744479"/>
                    <a:pt x="293929" y="1729924"/>
                    <a:pt x="283790" y="1715729"/>
                  </a:cubicBezTo>
                  <a:cubicBezTo>
                    <a:pt x="269729" y="1696044"/>
                    <a:pt x="255990" y="1676038"/>
                    <a:pt x="240247" y="1657671"/>
                  </a:cubicBezTo>
                  <a:cubicBezTo>
                    <a:pt x="194148" y="1603889"/>
                    <a:pt x="170503" y="1606682"/>
                    <a:pt x="138647" y="1527043"/>
                  </a:cubicBezTo>
                  <a:cubicBezTo>
                    <a:pt x="103140" y="1438275"/>
                    <a:pt x="124070" y="1476149"/>
                    <a:pt x="80590" y="1410929"/>
                  </a:cubicBezTo>
                  <a:cubicBezTo>
                    <a:pt x="44109" y="1301483"/>
                    <a:pt x="93320" y="1436389"/>
                    <a:pt x="37047" y="1323843"/>
                  </a:cubicBezTo>
                  <a:cubicBezTo>
                    <a:pt x="30205" y="1310159"/>
                    <a:pt x="27371" y="1294814"/>
                    <a:pt x="22533" y="1280300"/>
                  </a:cubicBezTo>
                  <a:cubicBezTo>
                    <a:pt x="-12679" y="1033831"/>
                    <a:pt x="-1860" y="1151002"/>
                    <a:pt x="22533" y="699729"/>
                  </a:cubicBezTo>
                  <a:cubicBezTo>
                    <a:pt x="25890" y="637616"/>
                    <a:pt x="52237" y="625806"/>
                    <a:pt x="80590" y="569100"/>
                  </a:cubicBezTo>
                  <a:cubicBezTo>
                    <a:pt x="158339" y="413602"/>
                    <a:pt x="-4233" y="688323"/>
                    <a:pt x="124133" y="452986"/>
                  </a:cubicBezTo>
                  <a:cubicBezTo>
                    <a:pt x="140839" y="422358"/>
                    <a:pt x="162838" y="394929"/>
                    <a:pt x="182190" y="365900"/>
                  </a:cubicBezTo>
                  <a:cubicBezTo>
                    <a:pt x="205167" y="331434"/>
                    <a:pt x="227751" y="295812"/>
                    <a:pt x="254761" y="264300"/>
                  </a:cubicBezTo>
                  <a:cubicBezTo>
                    <a:pt x="268119" y="248715"/>
                    <a:pt x="284946" y="236342"/>
                    <a:pt x="298304" y="220757"/>
                  </a:cubicBezTo>
                  <a:cubicBezTo>
                    <a:pt x="314047" y="202390"/>
                    <a:pt x="323767" y="178771"/>
                    <a:pt x="341847" y="162700"/>
                  </a:cubicBezTo>
                  <a:cubicBezTo>
                    <a:pt x="369725" y="137920"/>
                    <a:pt x="445613" y="92165"/>
                    <a:pt x="486990" y="75614"/>
                  </a:cubicBezTo>
                  <a:cubicBezTo>
                    <a:pt x="515400" y="64250"/>
                    <a:pt x="545047" y="56262"/>
                    <a:pt x="574076" y="46586"/>
                  </a:cubicBezTo>
                  <a:cubicBezTo>
                    <a:pt x="617132" y="32234"/>
                    <a:pt x="641137" y="22229"/>
                    <a:pt x="690190" y="17557"/>
                  </a:cubicBezTo>
                  <a:cubicBezTo>
                    <a:pt x="767401" y="10204"/>
                    <a:pt x="845009" y="7881"/>
                    <a:pt x="922418" y="3043"/>
                  </a:cubicBezTo>
                  <a:cubicBezTo>
                    <a:pt x="1115942" y="7881"/>
                    <a:pt x="1312039" y="-14268"/>
                    <a:pt x="1502990" y="17557"/>
                  </a:cubicBezTo>
                  <a:cubicBezTo>
                    <a:pt x="1533173" y="22587"/>
                    <a:pt x="1522342" y="75614"/>
                    <a:pt x="1532018" y="104643"/>
                  </a:cubicBezTo>
                  <a:lnTo>
                    <a:pt x="1575561" y="235271"/>
                  </a:lnTo>
                  <a:cubicBezTo>
                    <a:pt x="1580399" y="249785"/>
                    <a:pt x="1579258" y="267996"/>
                    <a:pt x="1590076" y="278814"/>
                  </a:cubicBezTo>
                  <a:cubicBezTo>
                    <a:pt x="1872316" y="561058"/>
                    <a:pt x="1565319" y="265443"/>
                    <a:pt x="1720704" y="394929"/>
                  </a:cubicBezTo>
                  <a:cubicBezTo>
                    <a:pt x="1736473" y="408069"/>
                    <a:pt x="1758349" y="418811"/>
                    <a:pt x="1764247" y="438471"/>
                  </a:cubicBezTo>
                  <a:cubicBezTo>
                    <a:pt x="1773979" y="470909"/>
                    <a:pt x="1761828" y="375576"/>
                    <a:pt x="1764247" y="554586"/>
                  </a:cubicBezTo>
                  <a:close/>
                </a:path>
              </a:pathLst>
            </a:custGeom>
            <a:solidFill>
              <a:srgbClr val="996666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3736800"/>
              <a:ext cx="23958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" descr=""/>
            <p:cNvPicPr/>
            <p:nvPr/>
          </p:nvPicPr>
          <p:blipFill>
            <a:blip r:embed="rId2"/>
            <a:stretch/>
          </p:blipFill>
          <p:spPr>
            <a:xfrm>
              <a:off x="2535120" y="3770280"/>
              <a:ext cx="2397240" cy="2467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9"/>
          <p:cNvGraphicFramePr/>
          <p:nvPr/>
        </p:nvGraphicFramePr>
        <p:xfrm>
          <a:off x="0" y="476280"/>
          <a:ext cx="860436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860436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1"/>
          <p:cNvSpPr/>
          <p:nvPr/>
        </p:nvSpPr>
        <p:spPr>
          <a:xfrm>
            <a:off x="0" y="5157720"/>
            <a:ext cx="52196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查理一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召开议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476360" y="1197000"/>
            <a:ext cx="32400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死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查理一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508720" y="5229360"/>
            <a:ext cx="36352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查理二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19640" y="2205000"/>
            <a:ext cx="3924360" cy="113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8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宫廷政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另立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4200480" y="290520"/>
            <a:ext cx="15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曲折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886440" y="33336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不彻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5508720" y="333360"/>
            <a:ext cx="15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漫长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5229360"/>
            <a:ext cx="165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1268280"/>
            <a:ext cx="1655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1771560"/>
            <a:ext cx="165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6000" y="2276640"/>
            <a:ext cx="1655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84720" y="5300640"/>
            <a:ext cx="165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573408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84464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227664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278136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58053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195640" y="33336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特点：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0:42:49Z</dcterms:created>
  <dc:creator>徐建权</dc:creator>
  <dc:description/>
  <dc:language>en-US</dc:language>
  <cp:lastModifiedBy>MC SYSTEM</cp:lastModifiedBy>
  <dcterms:modified xsi:type="dcterms:W3CDTF">2014-10-08T08:32:04Z</dcterms:modified>
  <cp:revision>167</cp:revision>
  <dc:subject/>
  <dc:title>英国资产阶级革命</dc:title>
</cp:coreProperties>
</file>